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DD09-4E08-418B-85C4-865484661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C537-7D05-4350-81E1-287CA23B1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862-7A61-4A09-AD60-563CBE94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C9B-3B16-4031-9DA1-9A56F91B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774-46A4-418E-BD98-3906B686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FDC-87AB-43A8-99AC-1B6CC26E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37D-03A3-4691-BABD-BE4554DE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FA2-41D6-4490-8705-E7D90ACC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2BA-1EED-41C6-82B0-CDF30F34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549-3613-41D3-994B-13AC386B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997-FBA9-4501-B379-32CE4608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6A0-33A5-421F-9BF4-AE5CF51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2DB-4522-443E-BA9E-43C9BB20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506-20BF-415A-ADF8-B0A88114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14D4-5D88-44A4-AD6E-4CF56E470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27" descr=""/>
          <p:cNvPicPr/>
          <p:nvPr/>
        </p:nvPicPr>
        <p:blipFill>
          <a:blip r:embed="rId1"/>
          <a:stretch/>
        </p:blipFill>
        <p:spPr>
          <a:xfrm>
            <a:off x="2736720" y="3529080"/>
            <a:ext cx="4078440" cy="1251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Maninder, si tu puedes comer mis chocolates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Masiel! ¿Me puede dar un chocolate por favo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aninder, y si yo quiero ir. Te voy mann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 amiga!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3434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ia! Estoy feliz y anciosia para estar contigo hoy! Mi dia es maravilloso h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Pero qùe haces, estas lista? Este dia va a estar divertido. Tu eres muy alta so m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oy a poner botas. Somos como hermanas y te quiero much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39Z</dcterms:modified>
  <cp:revision>106</cp:revision>
  <dc:subject/>
  <dc:title>Profile</dc:title>
</cp:coreProperties>
</file>